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E7C2-C59D-4D31-8A72-A3C468F68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AF09-AD03-42C4-B1B2-FB272598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73C4-74C3-48E7-99F2-43AA04A7B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2F3F-462D-4316-87FF-B6AC09D48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759A-DFD1-40D8-9883-B9BAA875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71DE-C9E5-4F6C-83B6-A1D53ECB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319C-D83E-477D-AF62-EC989C11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D89D-8ED3-4D1C-BA04-1575A904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94D4-6E04-4A31-9030-0FF99E4E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D78D-F4D5-4C5B-A7BF-C3ED613A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875E-7BC8-41CF-A701-C1AA8CD3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84BA-5D5F-4145-A4C7-76EDD708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7BCA-90EB-4F25-950F-7EA0BF7E4F2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504440" y="404640"/>
            <a:ext cx="365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스마트폰 일반카드 결제 샘플 가이드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안드로이드 폰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11280" y="1628640"/>
          <a:ext cx="7993080" cy="4543560"/>
        </p:xfrm>
        <a:graphic>
          <a:graphicData uri="http://schemas.openxmlformats.org/drawingml/2006/table">
            <a:tbl>
              <a:tblPr/>
              <a:tblGrid>
                <a:gridCol w="1800000"/>
                <a:gridCol w="6193080"/>
              </a:tblGrid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ampleAppl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역변수를 사용하기 위한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입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amp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어플 처음 실행시 시작되는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tivity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입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카드 결제와 계좌이체 결제를 선택할 수 있도록 되어있습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yDemoA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카드 결제를 담당하는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tivity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입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문자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업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페이지를 호출하여 결제가 카드결제가 진행되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ISP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등과 같은 을 제어한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ntPayDemoA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계좌이체 결제를 담당하는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tivity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입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sultRcvA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른 앱에서 되돌아올 때 호출되는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tivity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입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마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ysample’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으로 호출됩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퍼미션은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NTERNET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만 선언되었으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안드로이드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K 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버전으로 개발되었습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Text Box 21"/>
          <p:cNvSpPr/>
          <p:nvPr/>
        </p:nvSpPr>
        <p:spPr>
          <a:xfrm>
            <a:off x="513000" y="976320"/>
            <a:ext cx="27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ndroidManifest.xm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82560" y="847800"/>
          <a:ext cx="7993080" cy="5710320"/>
        </p:xfrm>
        <a:graphic>
          <a:graphicData uri="http://schemas.openxmlformats.org/drawingml/2006/table">
            <a:tbl>
              <a:tblPr/>
              <a:tblGrid>
                <a:gridCol w="1009800"/>
                <a:gridCol w="6983280"/>
              </a:tblGrid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능 상세설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nCreate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ebView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옵션을 설정하고 업체 주문페이지를 호출합니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ebView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사용하는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옵션기능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avePassword(false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웹페이지 비밀번호 자동저장 하지 않음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JavaScriptEnabled(true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자바스크립트 허용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JavaScriptCanOpenWindowsAutomatically(true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자바스크립트를 이용하여 윈도우를 새로 열수 있도록 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Bridge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클레스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ISP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를 실행하며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설치 되어있지 않으면 설치하도록 유도를 하는 클레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PinInfoBridge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클레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페이핀 설치 및 실행을 유도하는 클레스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PinReturn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클레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페이핀 어플 응답값을 확인하는 클레스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CardInfoBridge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클레스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하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K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카드 선택시에만 사용되는 클레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seWideViewPort(true) : device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에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보이는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View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화면을 와이드하게 확대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WebChromeClient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기능을 사용할 수 있도록 선언되었음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WebViewClient : WebViewClient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를 상속받아 구현되었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호출하는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RL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을 판단하여 분기처리한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클레스 및 함수 상세 설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rl_scheme_intent(String url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해당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rl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을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ntent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를 이용하여 호출하는 함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WebViewClient : webView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에서 호출되는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rl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을 메일과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전화번호는 자동연결을 막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url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을 주소를 판단하여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loadUrl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호출 방식과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ntent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호출방식으로 나누어 분기처리하여 호출하는 클래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CardInfoBridge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하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K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카드 결제시 하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K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앱을 호출 전에 카드정보와 결제방식 정보를 전역변수에 저장하고 앱을 호출하는 클래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Bridge : device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에 설치되어있는 모든 앱을 확인하여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SP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앱의 설치여부를 판단하여 설가 되어있으면 앱을 호출하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되어있지 않으면 안드로이드 마켓을 호출하여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SP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앱 설치를 유도하는 클래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inishActivity(String p_strFinishMsg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현재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ctivity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를 종료하는 함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heckFrom() : ISP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앱 종료 후 호출되고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pproval_key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값을 전달하여 결제를 진행하는 함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getPaypinInfo(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페이핀 어플이 설치 되어 있는지 확인 하는 함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paypinConfim(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페이핀 설치화면 이동 함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getConfirm(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페이핀 결제 완료 또는 취소를 확인 하는 함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nRestart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타 앱에서 복귀했을 때 호출되어 전역클레스에 값이 전달되었는지 확인합니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ResultRcvActivity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의해 값이 전역클레스에 정상적으로 전달되었을경우에는 결제를 진행합니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하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K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아닌경우에는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heckFrom()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함수가 실행되어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SP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제가 정상적으로 처리됩니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 Box 40"/>
          <p:cNvSpPr/>
          <p:nvPr/>
        </p:nvSpPr>
        <p:spPr>
          <a:xfrm>
            <a:off x="554760" y="33336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2. PayDemoActivit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682560" y="847800"/>
          <a:ext cx="7993080" cy="1041480"/>
        </p:xfrm>
        <a:graphic>
          <a:graphicData uri="http://schemas.openxmlformats.org/drawingml/2006/table">
            <a:tbl>
              <a:tblPr/>
              <a:tblGrid>
                <a:gridCol w="1009800"/>
                <a:gridCol w="698328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능 상세설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마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ysample’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값에 의해 호출되며 타앱에서 보낸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ntent Data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값을 전역클레스에 전달한 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tivity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를 끝낸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yApp.b_type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값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rue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로 만들어야 페이핀 어플에서 값을 받은 걸로 판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Text Box 40"/>
          <p:cNvSpPr/>
          <p:nvPr/>
        </p:nvSpPr>
        <p:spPr>
          <a:xfrm>
            <a:off x="573120" y="3333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3. ResultRcvActivit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82560" y="847800"/>
          <a:ext cx="7993080" cy="3143160"/>
        </p:xfrm>
        <a:graphic>
          <a:graphicData uri="http://schemas.openxmlformats.org/drawingml/2006/table">
            <a:tbl>
              <a:tblPr/>
              <a:tblGrid>
                <a:gridCol w="1009800"/>
                <a:gridCol w="698328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SP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얼 변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테스트 결제결과 웹 호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WebView.loadUrl( "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ttps://devpggw.kcp.co.kr:810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app.do?ActionResult=app&amp;AppUrl=paysample&amp;approval_key=" + strApprovalKey 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얼 결제결과 웹 호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서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WebView.loadUrl( "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ttps://pggw.kcp.co.k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app.do?ActionResult=app&amp;AppUrl=paysample&amp;approval_key=" + strApprovalKey 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신서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WebView.loadUrl( "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ttps://smpay.kcp.co.k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app.do?ActionResult=app&amp;AppUrl=paysample&amp;approval_key=" + strApprovalKey 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 Box 40"/>
          <p:cNvSpPr/>
          <p:nvPr/>
        </p:nvSpPr>
        <p:spPr>
          <a:xfrm>
            <a:off x="868320" y="33336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개발시 유의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06:59:01Z</dcterms:created>
  <dc:creator>polaris</dc:creator>
  <dc:description/>
  <dc:language>en-US</dc:language>
  <cp:lastModifiedBy>민수</cp:lastModifiedBy>
  <dcterms:modified xsi:type="dcterms:W3CDTF">2013-08-05T06:03:25Z</dcterms:modified>
  <cp:revision>65</cp:revision>
  <dc:subject/>
  <dc:title>슬라이드 1</dc:title>
</cp:coreProperties>
</file>